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3.png" ContentType="image/png"/>
  <Override PartName="/ppt/media/image21.wmf" ContentType="image/x-wmf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wmf" ContentType="image/x-wmf"/>
  <Override PartName="/ppt/media/image4.jpeg" ContentType="image/jpeg"/>
  <Override PartName="/ppt/media/image2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9939338" cy="6804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E72C-6C12-43F4-BC1B-DB453A499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7A07-1BF5-431D-959C-E5FB5D848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F884-CB02-4C78-A7B1-A080B0E2D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5299-F6CF-405A-8B3C-38D4294D4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614D-1514-4C45-BFB4-25F6F3F96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7BEB-8078-4B49-A291-57C8B0B92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348E-74BA-4FA5-AF25-93E5A85EC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51A6-EF98-43C3-A65A-AB5964F31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B013-B4CF-484E-9539-721208E6E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7952-1296-403F-9C29-497BBBED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3831-4C45-483B-B5B6-46412F86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6A8F-0094-44D3-8E7C-ADB0E753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06714-F336-4242-AF83-D892C604B1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8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3289680" y="3213000"/>
            <a:ext cx="247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aler Stand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2987640" y="765000"/>
            <a:ext cx="2889360" cy="20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380880" y="446040"/>
            <a:ext cx="8382240" cy="5907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"/>
          <p:cNvPicPr/>
          <p:nvPr/>
        </p:nvPicPr>
        <p:blipFill>
          <a:blip r:embed="rId2"/>
          <a:stretch/>
        </p:blipFill>
        <p:spPr>
          <a:xfrm>
            <a:off x="611280" y="549360"/>
            <a:ext cx="1225440" cy="834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3"/>
          <a:stretch/>
        </p:blipFill>
        <p:spPr>
          <a:xfrm>
            <a:off x="2700360" y="1509840"/>
            <a:ext cx="1079640" cy="7347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"/>
          <p:cNvPicPr/>
          <p:nvPr/>
        </p:nvPicPr>
        <p:blipFill>
          <a:blip r:embed="rId4"/>
          <a:stretch/>
        </p:blipFill>
        <p:spPr>
          <a:xfrm>
            <a:off x="2771640" y="4341960"/>
            <a:ext cx="863640" cy="587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"/>
          <p:cNvPicPr/>
          <p:nvPr/>
        </p:nvPicPr>
        <p:blipFill>
          <a:blip r:embed="rId5"/>
          <a:stretch/>
        </p:blipFill>
        <p:spPr>
          <a:xfrm>
            <a:off x="6227640" y="4869000"/>
            <a:ext cx="574920" cy="390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"/>
          <p:cNvPicPr/>
          <p:nvPr/>
        </p:nvPicPr>
        <p:blipFill>
          <a:blip r:embed="rId6"/>
          <a:stretch/>
        </p:blipFill>
        <p:spPr>
          <a:xfrm>
            <a:off x="6213600" y="2558880"/>
            <a:ext cx="587160" cy="3985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"/>
          <p:cNvPicPr/>
          <p:nvPr/>
        </p:nvPicPr>
        <p:blipFill>
          <a:blip r:embed="rId7"/>
          <a:stretch/>
        </p:blipFill>
        <p:spPr>
          <a:xfrm>
            <a:off x="4633920" y="2065320"/>
            <a:ext cx="792000" cy="5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2100240" y="0"/>
            <a:ext cx="483408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"/>
          <p:cNvPicPr/>
          <p:nvPr/>
        </p:nvPicPr>
        <p:blipFill>
          <a:blip r:embed="rId2"/>
          <a:stretch/>
        </p:blipFill>
        <p:spPr>
          <a:xfrm>
            <a:off x="3606840" y="1370160"/>
            <a:ext cx="1152360" cy="784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"/>
          <p:cNvPicPr/>
          <p:nvPr/>
        </p:nvPicPr>
        <p:blipFill>
          <a:blip r:embed="rId3"/>
          <a:stretch/>
        </p:blipFill>
        <p:spPr>
          <a:xfrm>
            <a:off x="2195640" y="189000"/>
            <a:ext cx="936360" cy="637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"/>
          <p:cNvPicPr/>
          <p:nvPr/>
        </p:nvPicPr>
        <p:blipFill>
          <a:blip r:embed="rId4"/>
          <a:stretch/>
        </p:blipFill>
        <p:spPr>
          <a:xfrm rot="21223200">
            <a:off x="3773160" y="4546440"/>
            <a:ext cx="1224000" cy="8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2100240" y="0"/>
            <a:ext cx="483408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"/>
          <p:cNvPicPr/>
          <p:nvPr/>
        </p:nvPicPr>
        <p:blipFill>
          <a:blip r:embed="rId2"/>
          <a:stretch/>
        </p:blipFill>
        <p:spPr>
          <a:xfrm>
            <a:off x="2124000" y="189000"/>
            <a:ext cx="935280" cy="635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"/>
          <p:cNvPicPr/>
          <p:nvPr/>
        </p:nvPicPr>
        <p:blipFill>
          <a:blip r:embed="rId3"/>
          <a:stretch/>
        </p:blipFill>
        <p:spPr>
          <a:xfrm>
            <a:off x="3348000" y="1628640"/>
            <a:ext cx="1584360" cy="1076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4"/>
          <a:stretch/>
        </p:blipFill>
        <p:spPr>
          <a:xfrm>
            <a:off x="3995640" y="4869000"/>
            <a:ext cx="936720" cy="6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4202280" y="0"/>
            <a:ext cx="483372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179280" y="2205000"/>
            <a:ext cx="381636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 u="sng">
                <a:solidFill>
                  <a:srgbClr val="000000"/>
                </a:solidFill>
                <a:uFillTx/>
                <a:latin typeface="Angsana New"/>
              </a:rPr>
              <a:t>ป้ายทะเบียน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ngsana New"/>
              </a:rPr>
              <a:t>(registration pl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ngsana New"/>
              </a:rPr>
              <a:t>รายละเอียด</a:t>
            </a:r>
            <a:r>
              <a:rPr b="0" lang="en-US" sz="2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Angsana New"/>
              </a:rPr>
              <a:t>สี และรูปแบบตรงตามที่กำหน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ngsana New"/>
              </a:rPr>
              <a:t>ติดที่ด้านหน้าและหลังของรถยนต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2"/>
          <a:stretch/>
        </p:blipFill>
        <p:spPr>
          <a:xfrm>
            <a:off x="4356000" y="260280"/>
            <a:ext cx="936720" cy="636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3"/>
          <a:stretch/>
        </p:blipFill>
        <p:spPr>
          <a:xfrm>
            <a:off x="6084720" y="1341360"/>
            <a:ext cx="1152720" cy="782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"/>
          <p:cNvPicPr/>
          <p:nvPr/>
        </p:nvPicPr>
        <p:blipFill>
          <a:blip r:embed="rId4"/>
          <a:stretch/>
        </p:blipFill>
        <p:spPr>
          <a:xfrm>
            <a:off x="6012000" y="2743200"/>
            <a:ext cx="1152360" cy="782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5"/>
          <a:stretch/>
        </p:blipFill>
        <p:spPr>
          <a:xfrm>
            <a:off x="6012000" y="4183200"/>
            <a:ext cx="1152360" cy="782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"/>
          <p:cNvPicPr/>
          <p:nvPr/>
        </p:nvPicPr>
        <p:blipFill>
          <a:blip r:embed="rId6"/>
          <a:stretch/>
        </p:blipFill>
        <p:spPr>
          <a:xfrm>
            <a:off x="6012000" y="5613480"/>
            <a:ext cx="1152360" cy="7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0" y="0"/>
            <a:ext cx="5943600" cy="458640"/>
          </a:xfrm>
          <a:prstGeom prst="rect">
            <a:avLst/>
          </a:prstGeom>
          <a:solidFill>
            <a:srgbClr val="ff99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76320" y="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Arial"/>
                <a:cs typeface="FreesiaUPC"/>
              </a:rPr>
              <a:t>หัวข้อด้านรถยนต์มือสองที่กระทบกับกฎหมา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5"/>
          <p:cNvSpPr/>
          <p:nvPr/>
        </p:nvSpPr>
        <p:spPr>
          <a:xfrm>
            <a:off x="523800" y="690480"/>
            <a:ext cx="1744560" cy="37944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464040" y="685800"/>
            <a:ext cx="148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Cordia New"/>
                <a:cs typeface="Cordia New"/>
              </a:rPr>
              <a:t>วัตถุประสงค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10"/>
          <p:cNvSpPr/>
          <p:nvPr/>
        </p:nvSpPr>
        <p:spPr>
          <a:xfrm>
            <a:off x="549360" y="2349360"/>
            <a:ext cx="4567320" cy="38448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663480" y="2344680"/>
            <a:ext cx="43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Cordia New"/>
                <a:cs typeface="Cordia New"/>
              </a:rPr>
              <a:t>ขอบเขตในส่วนของด้านรถยนต์มือสอ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22"/>
          <p:cNvSpPr/>
          <p:nvPr/>
        </p:nvSpPr>
        <p:spPr>
          <a:xfrm>
            <a:off x="892080" y="1063800"/>
            <a:ext cx="748980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1. 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ป้องกันผลกระทบจากกฎหมายคุ้มครองผู้บริโภคแก่ผู้แทนจำหน่ายทั่วประเท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dia New"/>
                <a:ea typeface="MS PGothic"/>
              </a:rPr>
              <a:t>2. 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ดูแลปัญหาที่ส่งผลกระทบต่อลูกค้าร้องเรียนในส่วนของผู้แทนจำหน่า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3. 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ป้องกันปัญหาลูกค้าร้องเรียนที่เกิดจากเรียกร้องสิทธิการคุ้มครองผู้บริโภ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4. 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ป้องกันความเสี่ยงจากการแพ้คดี ทางผู้แทนจำหน่าย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22"/>
          <p:cNvSpPr/>
          <p:nvPr/>
        </p:nvSpPr>
        <p:spPr>
          <a:xfrm>
            <a:off x="663480" y="2741760"/>
            <a:ext cx="74898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อ้างถึง ประกาศคณะกรรมการว่าด้วยฉลาก ฉบับที่</a:t>
            </a:r>
            <a:r>
              <a:rPr b="1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24 (</a:t>
            </a:r>
            <a:r>
              <a:rPr b="1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พ</a:t>
            </a:r>
            <a:r>
              <a:rPr b="1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.</a:t>
            </a:r>
            <a:r>
              <a:rPr b="1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ศ</a:t>
            </a:r>
            <a:r>
              <a:rPr b="1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.2550) </a:t>
            </a:r>
            <a:r>
              <a:rPr b="1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เรื่อง ให้รถยนต์ใช้แล้วเป็นสินค้าที่ควบคุมฉลาก </a:t>
            </a:r>
            <a:r>
              <a:rPr b="1" lang="th-TH" sz="1800" spc="-1" strike="noStrike" u="sng">
                <a:solidFill>
                  <a:srgbClr val="000000"/>
                </a:solidFill>
                <a:uFillTx/>
                <a:latin typeface="Cordia New"/>
                <a:cs typeface="FreesiaUPC"/>
              </a:rPr>
              <a:t>บังคับใช้  </a:t>
            </a:r>
            <a:r>
              <a:rPr b="1" lang="th-TH" sz="1800" spc="-1" strike="noStrike" u="sng">
                <a:solidFill>
                  <a:srgbClr val="000000"/>
                </a:solidFill>
                <a:uFillTx/>
                <a:latin typeface="Cordia New"/>
                <a:ea typeface="FreesiaUPC"/>
              </a:rPr>
              <a:t>30 </a:t>
            </a:r>
            <a:r>
              <a:rPr b="1" lang="th-TH" sz="1800" spc="-1" strike="noStrike" u="sng">
                <a:solidFill>
                  <a:srgbClr val="000000"/>
                </a:solidFill>
                <a:uFillTx/>
                <a:latin typeface="Cordia New"/>
                <a:cs typeface="FreesiaUPC"/>
              </a:rPr>
              <a:t>สิงหาคคม </a:t>
            </a:r>
            <a:r>
              <a:rPr b="1" lang="th-TH" sz="1800" spc="-1" strike="noStrike" u="sng">
                <a:solidFill>
                  <a:srgbClr val="000000"/>
                </a:solidFill>
                <a:uFillTx/>
                <a:latin typeface="Cordia New"/>
                <a:ea typeface="FreesiaUPC"/>
              </a:rPr>
              <a:t>25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22"/>
          <p:cNvSpPr/>
          <p:nvPr/>
        </p:nvSpPr>
        <p:spPr>
          <a:xfrm>
            <a:off x="511200" y="4952880"/>
            <a:ext cx="748980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“</a:t>
            </a:r>
            <a:r>
              <a:rPr b="1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รถยนต์ใช้แล้ว”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 หมายความว่า รถยนต์ที่นั่งส่วนบุคคลไมเกิน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7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คน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, 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รถยนต์นั่งส่วน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 บุคคลเกิน 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7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คน แต่ไม่เกิน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12 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คน และรถยนต์บรรทุกส่วนบุคคลที่ม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                       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น้ำหนักรถไม่เกิน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1,600 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กิโลกรัม ซึ่งมิได้ใช้ประกอบการขนส่งเพื่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                       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สินจ้างตามกฎหมายว่าด้วยการขนส่งทางบกที่ได้จดทะเบียนตาม พรบ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                       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รถยนต์พ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.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ศ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.2522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แล้ว ซึ่งผู้ประกอบธุรกิจมีไว้เพื่อจำหน่า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22"/>
          <p:cNvSpPr/>
          <p:nvPr/>
        </p:nvSpPr>
        <p:spPr>
          <a:xfrm>
            <a:off x="511200" y="3422520"/>
            <a:ext cx="672768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“</a:t>
            </a:r>
            <a:r>
              <a:rPr b="1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ธุรกิจการขายรถยนต์ใช้แล้ว”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 หมายความว่า การประกอบธุรกิจการค้าโดยผู้ประกอ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                         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ธุรกิจนำรถยนต์ใช้แล้ว ออกขาย แลกเปลี่ยน หรือจำหน่ายโดยประกา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                         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อื่นอย่างทรัพย์ที่ใช้แล้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22"/>
          <p:cNvSpPr/>
          <p:nvPr/>
        </p:nvSpPr>
        <p:spPr>
          <a:xfrm>
            <a:off x="380880" y="4343400"/>
            <a:ext cx="748980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“</a:t>
            </a:r>
            <a:r>
              <a:rPr b="1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ผู้ประกอบธุรกิจ”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 หมายความว่า ผู้ประกอบธุรกิจขายรถยนต์ใช้แล้วซึ่งไม่รวมถึงกา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                       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ซื้อขายโดยทำธุรกรรมทางอิเลกทรอนิกส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rcRect l="14375" t="8594" r="12500" b="65628"/>
          <a:stretch/>
        </p:blipFill>
        <p:spPr>
          <a:xfrm>
            <a:off x="109440" y="1828800"/>
            <a:ext cx="8915400" cy="2514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"/>
          <p:cNvPicPr/>
          <p:nvPr/>
        </p:nvPicPr>
        <p:blipFill>
          <a:blip r:embed="rId2"/>
          <a:srcRect l="14375" t="72660" r="12500" b="7032"/>
          <a:stretch/>
        </p:blipFill>
        <p:spPr>
          <a:xfrm>
            <a:off x="109440" y="4114800"/>
            <a:ext cx="8915400" cy="19810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22"/>
          <p:cNvSpPr/>
          <p:nvPr/>
        </p:nvSpPr>
        <p:spPr>
          <a:xfrm>
            <a:off x="304920" y="304920"/>
            <a:ext cx="838188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“</a:t>
            </a:r>
            <a:r>
              <a:rPr b="1" lang="th-TH" sz="1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ฉลากของสินค้าที่ควบคุม”</a:t>
            </a:r>
            <a:r>
              <a:rPr b="0" lang="th-TH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หมายความว่า ให้ระบุข้อมูลด้วยตัวอักษรขนาดไม่ต่ำกว่า </a:t>
            </a:r>
            <a:r>
              <a:rPr b="0" lang="th-TH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 </a:t>
            </a:r>
            <a:r>
              <a:rPr b="0" lang="th-TH" sz="1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ซม</a:t>
            </a:r>
            <a:r>
              <a:rPr b="0" lang="th-TH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 </a:t>
            </a:r>
            <a:r>
              <a:rPr b="0" lang="th-TH" sz="1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เกี่ยวกับรถยนต์ใช้แล้ว ตามที่ปรากฎในรายการจดทะเบียนตามกฎหมายว่าด้วยรถยนต์ ตั้งแต่วันจดทะเบียนจนถึงวันที่จำหน่าย </a:t>
            </a:r>
            <a:r>
              <a:rPr b="0" lang="th-TH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ดังต่อไปนี้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iD1_AW"/>
          <p:cNvPicPr/>
          <p:nvPr/>
        </p:nvPicPr>
        <p:blipFill>
          <a:blip r:embed="rId1"/>
          <a:stretch/>
        </p:blipFill>
        <p:spPr>
          <a:xfrm>
            <a:off x="0" y="0"/>
            <a:ext cx="9144000" cy="64674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4"/>
          <p:cNvSpPr/>
          <p:nvPr/>
        </p:nvSpPr>
        <p:spPr>
          <a:xfrm>
            <a:off x="4010040" y="914400"/>
            <a:ext cx="21337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rpoA"/>
              </a:rPr>
              <a:t>รายละเอียดรถยนต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609480" y="914400"/>
            <a:ext cx="175284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rpoA"/>
              </a:rPr>
              <a:t>ข้อมูลเชิงเทคนิ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4253040" y="1371600"/>
            <a:ext cx="15238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ยี่ห้อรถ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/</a:t>
            </a: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รุ่น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เลขตัวรถ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เลขเครื่องยนต์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สี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วันจดทะเบียน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 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เลขทะเบียน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ประเภทของรถ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en-US" sz="1400" spc="-1" strike="noStrike">
                <a:solidFill>
                  <a:srgbClr val="000000"/>
                </a:solidFill>
                <a:latin typeface="CorpoSLig"/>
              </a:rPr>
              <a:t>CBU/CKD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 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ลำดับเจ้าของรถ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152280" y="3200400"/>
            <a:ext cx="1981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-295200" y="1324080"/>
            <a:ext cx="2124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ยี่ห้อเครื่องยนต์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ชนิดเชื้อเพลิง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ปริมาตรกระบอกสูบ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rpoSLig"/>
              </a:rPr>
              <a:t>(cc) 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แรงบิดสูงสุด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rpoSLig"/>
              </a:rPr>
              <a:t>(Nm) 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แรงม้าสูงสุด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rpoSLig"/>
              </a:rPr>
              <a:t>(hp) :</a:t>
            </a:r>
            <a:br>
              <a:rPr sz="14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ความเร็วสูงสุด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rpoSLig"/>
              </a:rPr>
              <a:t>(km/hr)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380880" y="3733920"/>
            <a:ext cx="21337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 u="sng">
                <a:solidFill>
                  <a:srgbClr val="000000"/>
                </a:solidFill>
                <a:uFillTx/>
                <a:latin typeface="CorpoA"/>
              </a:rPr>
              <a:t>ราคา</a:t>
            </a:r>
            <a:r>
              <a:rPr b="1" lang="th-TH" sz="2000" spc="-1" strike="noStrike">
                <a:solidFill>
                  <a:srgbClr val="000000"/>
                </a:solidFill>
                <a:latin typeface="Corpo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rpo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0"/>
          <p:cNvSpPr/>
          <p:nvPr/>
        </p:nvSpPr>
        <p:spPr>
          <a:xfrm>
            <a:off x="85680" y="4419720"/>
            <a:ext cx="1743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แคมเปญ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เงินดาวน์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ค่างวดต่อเดือน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1"/>
          <p:cNvSpPr/>
          <p:nvPr/>
        </p:nvSpPr>
        <p:spPr>
          <a:xfrm>
            <a:off x="4072320" y="4378320"/>
            <a:ext cx="456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imes New Roman"/>
              </a:rPr>
              <a:t>ภาระผูกพันของรถยนต์ที่มีอยู่ในวันจำจำหน่าย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th-TH" sz="1600" spc="-1" strike="noStrike">
                <a:solidFill>
                  <a:srgbClr val="000000"/>
                </a:solidFill>
                <a:latin typeface="Times New Roman"/>
              </a:rPr>
              <a:t>ถ้ามี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 :  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33" descr=""/>
          <p:cNvPicPr/>
          <p:nvPr/>
        </p:nvPicPr>
        <p:blipFill>
          <a:blip r:embed="rId2"/>
          <a:stretch/>
        </p:blipFill>
        <p:spPr>
          <a:xfrm>
            <a:off x="152280" y="44280"/>
            <a:ext cx="1447920" cy="9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iD1_AW"/>
          <p:cNvPicPr/>
          <p:nvPr/>
        </p:nvPicPr>
        <p:blipFill>
          <a:blip r:embed="rId1"/>
          <a:stretch/>
        </p:blipFill>
        <p:spPr>
          <a:xfrm>
            <a:off x="0" y="0"/>
            <a:ext cx="9144000" cy="64674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04920" y="5486400"/>
            <a:ext cx="556272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poA"/>
              </a:rPr>
              <a:t>C 200</a:t>
            </a:r>
            <a:r>
              <a:rPr b="0" lang="th-TH" sz="3200" spc="-1" strike="noStrike">
                <a:solidFill>
                  <a:srgbClr val="000000"/>
                </a:solidFill>
                <a:latin typeface="Corpo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poA"/>
              </a:rPr>
              <a:t>Blue EFFICI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4010040" y="914400"/>
            <a:ext cx="21337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rpoA"/>
              </a:rPr>
              <a:t>รายละเอียดรถยนต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609480" y="914400"/>
            <a:ext cx="175284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rpoA"/>
              </a:rPr>
              <a:t>ข้อมูลเชิงเทคนิ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4253040" y="1371600"/>
            <a:ext cx="15238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ยี่ห้อรถ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/</a:t>
            </a: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รุ่น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เลขตัวรถ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เลขเครื่องยนต์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สี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วันจดทะเบียน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 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เลขทะเบียน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ประเภทของรถ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en-US" sz="1400" spc="-1" strike="noStrike">
                <a:solidFill>
                  <a:srgbClr val="000000"/>
                </a:solidFill>
                <a:latin typeface="CorpoSLig"/>
              </a:rPr>
              <a:t>CBU/CKD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 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ลำดับเจ้าของรถ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152280" y="3200400"/>
            <a:ext cx="1981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-295200" y="1324080"/>
            <a:ext cx="2124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ยี่ห้อเครื่องยนต์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ชนิดเชื้อเพลิง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ปริมาตรกระบอกสูบ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rpoSLig"/>
              </a:rPr>
              <a:t>(cc) 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แรงบิดสูงสุด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rpoSLig"/>
              </a:rPr>
              <a:t>(Nm) 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แรงม้าสูงสุด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rpoSLig"/>
              </a:rPr>
              <a:t>(hp) :</a:t>
            </a:r>
            <a:br>
              <a:rPr sz="14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ความเร็วสูงสุด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rpoSLig"/>
              </a:rPr>
              <a:t>(km/hr)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380880" y="3733920"/>
            <a:ext cx="21337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 u="sng">
                <a:solidFill>
                  <a:srgbClr val="000000"/>
                </a:solidFill>
                <a:uFillTx/>
                <a:latin typeface="CorpoA"/>
              </a:rPr>
              <a:t>ราคา</a:t>
            </a:r>
            <a:r>
              <a:rPr b="1" lang="th-TH" sz="2000" spc="-1" strike="noStrike">
                <a:solidFill>
                  <a:srgbClr val="000000"/>
                </a:solidFill>
                <a:latin typeface="Corpo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rpo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10"/>
          <p:cNvSpPr/>
          <p:nvPr/>
        </p:nvSpPr>
        <p:spPr>
          <a:xfrm>
            <a:off x="85680" y="4419720"/>
            <a:ext cx="1743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แคมเปญ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เงินดาวน์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ค่างวดต่อเดือน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4072320" y="4378320"/>
            <a:ext cx="456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imes New Roman"/>
              </a:rPr>
              <a:t>ภาระผูกพันของรถยนต์ที่มีอยู่ในวันจำจำหน่าย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th-TH" sz="1600" spc="-1" strike="noStrike">
                <a:solidFill>
                  <a:srgbClr val="000000"/>
                </a:solidFill>
                <a:latin typeface="Times New Roman"/>
              </a:rPr>
              <a:t>ถ้ามี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 :  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15"/>
          <p:cNvSpPr/>
          <p:nvPr/>
        </p:nvSpPr>
        <p:spPr>
          <a:xfrm>
            <a:off x="1774800" y="1476360"/>
            <a:ext cx="256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A"/>
              </a:rPr>
              <a:t>Mercedes-Benz/M2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28"/>
          <p:cNvSpPr/>
          <p:nvPr/>
        </p:nvSpPr>
        <p:spPr>
          <a:xfrm>
            <a:off x="5791320" y="138276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A"/>
              </a:rPr>
              <a:t>MB/C200 BlueEFFICI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29"/>
          <p:cNvSpPr/>
          <p:nvPr/>
        </p:nvSpPr>
        <p:spPr>
          <a:xfrm>
            <a:off x="1774800" y="17334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31"/>
          <p:cNvSpPr/>
          <p:nvPr/>
        </p:nvSpPr>
        <p:spPr>
          <a:xfrm>
            <a:off x="5791320" y="172728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A"/>
              </a:rPr>
              <a:t>204048 6L 0479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32"/>
          <p:cNvSpPr/>
          <p:nvPr/>
        </p:nvSpPr>
        <p:spPr>
          <a:xfrm>
            <a:off x="1774800" y="211464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A"/>
              </a:rPr>
              <a:t>1,7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34"/>
          <p:cNvSpPr/>
          <p:nvPr/>
        </p:nvSpPr>
        <p:spPr>
          <a:xfrm>
            <a:off x="5791320" y="20509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A"/>
              </a:rPr>
              <a:t>271860 30 223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5810400" y="243216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rpoA"/>
              </a:rPr>
              <a:t>เงิ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1766880" y="27846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A"/>
              </a:rPr>
              <a:t>184/5,2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40"/>
          <p:cNvSpPr/>
          <p:nvPr/>
        </p:nvSpPr>
        <p:spPr>
          <a:xfrm>
            <a:off x="5791320" y="2727360"/>
            <a:ext cx="990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rpoS"/>
              </a:rPr>
              <a:t>1 </a:t>
            </a:r>
            <a:r>
              <a:rPr b="0" lang="th-TH" sz="2000" spc="-1" strike="noStrike">
                <a:solidFill>
                  <a:srgbClr val="000000"/>
                </a:solidFill>
                <a:latin typeface="CorpoS"/>
              </a:rPr>
              <a:t>ม</a:t>
            </a:r>
            <a:r>
              <a:rPr b="0" lang="th-TH" sz="2000" spc="-1" strike="noStrike">
                <a:solidFill>
                  <a:srgbClr val="000000"/>
                </a:solidFill>
                <a:latin typeface="CorpoS"/>
              </a:rPr>
              <a:t>.</a:t>
            </a:r>
            <a:r>
              <a:rPr b="0" lang="th-TH" sz="2000" spc="-1" strike="noStrike">
                <a:solidFill>
                  <a:srgbClr val="000000"/>
                </a:solidFill>
                <a:latin typeface="CorpoS"/>
              </a:rPr>
              <a:t>ค</a:t>
            </a:r>
            <a:r>
              <a:rPr b="0" lang="th-TH" sz="2000" spc="-1" strike="noStrike">
                <a:solidFill>
                  <a:srgbClr val="000000"/>
                </a:solidFill>
                <a:latin typeface="CorpoS"/>
              </a:rPr>
              <a:t>. 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41"/>
          <p:cNvSpPr/>
          <p:nvPr/>
        </p:nvSpPr>
        <p:spPr>
          <a:xfrm>
            <a:off x="1774800" y="30672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A"/>
              </a:rPr>
              <a:t>23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43"/>
          <p:cNvSpPr/>
          <p:nvPr/>
        </p:nvSpPr>
        <p:spPr>
          <a:xfrm>
            <a:off x="5800680" y="305100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rpoA"/>
              </a:rPr>
              <a:t>มบ </a:t>
            </a:r>
            <a:r>
              <a:rPr b="0" lang="th-TH" sz="2000" spc="-1" strike="noStrike">
                <a:solidFill>
                  <a:srgbClr val="000000"/>
                </a:solidFill>
                <a:latin typeface="CorpoA"/>
              </a:rPr>
              <a:t>69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46"/>
          <p:cNvSpPr/>
          <p:nvPr/>
        </p:nvSpPr>
        <p:spPr>
          <a:xfrm>
            <a:off x="5791320" y="329076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rpoA"/>
              </a:rPr>
              <a:t>รถยนต์นั่งส่วนบุคคลไม่เกิน</a:t>
            </a:r>
            <a:r>
              <a:rPr b="0" lang="th-TH" sz="2000" spc="-1" strike="noStrike">
                <a:solidFill>
                  <a:srgbClr val="000000"/>
                </a:solidFill>
                <a:latin typeface="CorpoA"/>
              </a:rPr>
              <a:t>7</a:t>
            </a:r>
            <a:r>
              <a:rPr b="0" lang="th-TH" sz="2000" spc="-1" strike="noStrike">
                <a:solidFill>
                  <a:srgbClr val="000000"/>
                </a:solidFill>
                <a:latin typeface="CorpoA"/>
              </a:rPr>
              <a:t>ค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47"/>
          <p:cNvSpPr/>
          <p:nvPr/>
        </p:nvSpPr>
        <p:spPr>
          <a:xfrm>
            <a:off x="990720" y="376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poA"/>
              </a:rPr>
              <a:t>1,850,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49"/>
          <p:cNvSpPr/>
          <p:nvPr/>
        </p:nvSpPr>
        <p:spPr>
          <a:xfrm>
            <a:off x="5791320" y="36972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A"/>
              </a:rPr>
              <a:t>CK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55"/>
          <p:cNvSpPr/>
          <p:nvPr/>
        </p:nvSpPr>
        <p:spPr>
          <a:xfrm>
            <a:off x="1774800" y="24210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A"/>
              </a:rPr>
              <a:t>270/1,800-4,6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56"/>
          <p:cNvSpPr/>
          <p:nvPr/>
        </p:nvSpPr>
        <p:spPr>
          <a:xfrm>
            <a:off x="1808280" y="1793880"/>
            <a:ext cx="89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rpoA"/>
              </a:rPr>
              <a:t>เบนซิ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60"/>
          <p:cNvSpPr/>
          <p:nvPr/>
        </p:nvSpPr>
        <p:spPr>
          <a:xfrm>
            <a:off x="5800680" y="39258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rpoA"/>
              </a:rPr>
              <a:t>1. </a:t>
            </a:r>
            <a:r>
              <a:rPr b="0" lang="th-TH" sz="2000" spc="-1" strike="noStrike">
                <a:solidFill>
                  <a:srgbClr val="000000"/>
                </a:solidFill>
                <a:latin typeface="CorpoA"/>
              </a:rPr>
              <a:t>สมชาย สิริประภ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61"/>
          <p:cNvSpPr/>
          <p:nvPr/>
        </p:nvSpPr>
        <p:spPr>
          <a:xfrm>
            <a:off x="1752480" y="4676760"/>
            <a:ext cx="1143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A"/>
              </a:rPr>
              <a:t>200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2"/>
          <p:cNvSpPr/>
          <p:nvPr/>
        </p:nvSpPr>
        <p:spPr>
          <a:xfrm>
            <a:off x="1752480" y="4981680"/>
            <a:ext cx="1057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A"/>
              </a:rPr>
              <a:t>19,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64"/>
          <p:cNvSpPr/>
          <p:nvPr/>
        </p:nvSpPr>
        <p:spPr>
          <a:xfrm>
            <a:off x="1774800" y="4343400"/>
            <a:ext cx="134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rpoA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65" descr=""/>
          <p:cNvPicPr/>
          <p:nvPr/>
        </p:nvPicPr>
        <p:blipFill>
          <a:blip r:embed="rId2"/>
          <a:stretch/>
        </p:blipFill>
        <p:spPr>
          <a:xfrm>
            <a:off x="152280" y="44280"/>
            <a:ext cx="1447920" cy="9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0" y="620640"/>
            <a:ext cx="8820000" cy="51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) New Dealer Standard  :  Used Car  ( Basic Bonus 0.45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.1) 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1.1.1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venExclusivity vehicles must have been sold by Mercedes-benz authorized dealer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1.1.2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ProvenExclusivity vehicles have to sell with warranty and star assist at least 1 year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1.1.3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monstration car which are allowed for sell  must be input and sell via website:www.BenzProven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.2)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1.2.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ock and retail report will be automatically report by website.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ncel  retail report by e-mail or fa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1.2.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venExclusivity vehicles will be randomly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ecked at showroom.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1.2.3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ProvenExclusivity vehicles area display and POS must follow stand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3333cc"/>
                </a:solidFill>
                <a:latin typeface="Times New Roman"/>
              </a:rPr>
              <a:t>             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</a:rPr>
              <a:t>1.2.4</a:t>
            </a: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   Trade-in prospect report  must be submitted every end month .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</a:rPr>
              <a:t> (</a:t>
            </a: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within 7 day after end mont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.3)</a:t>
            </a:r>
            <a:r>
              <a:rPr b="1" lang="th-TH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Peo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1.3.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PE responsible person can be the same as sales manager or one in sale team</a:t>
            </a:r>
            <a:r>
              <a:rPr b="0" lang="en-US" sz="1400" spc="-1" strike="noStrike">
                <a:solidFill>
                  <a:srgbClr val="000000"/>
                </a:solidFill>
                <a:latin typeface="CorpoS"/>
                <a:ea typeface="PMingLiU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poS"/>
                <a:ea typeface="PMingLiU"/>
              </a:rPr>
              <a:t>           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ust be register responsible person in website and Organization char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.4) Document and Lice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1.4.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ice tag and Receipt form must be follow ProvenExclusivity standar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1.4.2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aler must be get used car sell licens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Box 1"/>
          <p:cNvSpPr/>
          <p:nvPr/>
        </p:nvSpPr>
        <p:spPr>
          <a:xfrm>
            <a:off x="117000" y="96840"/>
            <a:ext cx="15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0" y="620640"/>
            <a:ext cx="9252000" cy="71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) New Dealer Standard  :  Used Car  ( Basic Bonus 0.45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0000"/>
                </a:solidFill>
                <a:latin typeface="Times New Roman"/>
              </a:rPr>
              <a:t>1.1) </a:t>
            </a:r>
            <a:r>
              <a:rPr b="1" lang="th-TH" sz="1800" spc="-1" strike="noStrike">
                <a:solidFill>
                  <a:srgbClr val="ff0000"/>
                </a:solidFill>
                <a:latin typeface="Times New Roman"/>
              </a:rPr>
              <a:t>สินค้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1.1.1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รถยนต์ในโครงการ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enExclusivity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ต้องเป็นรถที่จำหน่ายโดยผู้แทนจำหน่ายเมอร์เซเดสเบนซ์อย่างเป็นทางการเท่านั้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1.1.2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รถยนต์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enExclusivi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ต้องจำหน่ายพร้อม การรับประกันคุณภาพและ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r assist </a:t>
            </a:r>
            <a:r>
              <a:rPr b="0" lang="th-TH" sz="1600" spc="-1" strike="noStrike">
                <a:solidFill>
                  <a:srgbClr val="000000"/>
                </a:solidFill>
                <a:latin typeface="Times New Roman"/>
              </a:rPr>
              <a:t>อย่างน้อย</a:t>
            </a:r>
            <a:r>
              <a:rPr b="0" lang="th-TH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th-TH" sz="1600" spc="-1" strike="noStrike">
                <a:solidFill>
                  <a:srgbClr val="000000"/>
                </a:solidFill>
                <a:latin typeface="Times New Roman"/>
              </a:rPr>
              <a:t>ปีเต็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1.1.3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รถยนต์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mo car</a:t>
            </a:r>
            <a:r>
              <a:rPr b="0" lang="th-TH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Times New Roman"/>
              </a:rPr>
              <a:t>ที่ครบกำหนดอายุขาย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ถือเป็นรถยนต์ใช้แล้วต้องทำการบันทึกและจำหน่ายผ่านทาง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site:www.BenzProven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th-TH" sz="1800" spc="-1" strike="noStrike">
                <a:solidFill>
                  <a:srgbClr val="ff0000"/>
                </a:solidFill>
                <a:latin typeface="Times New Roman"/>
              </a:rPr>
              <a:t>1.2) </a:t>
            </a:r>
            <a:r>
              <a:rPr b="1" lang="th-TH" sz="1800" spc="-1" strike="noStrike">
                <a:solidFill>
                  <a:srgbClr val="ff0000"/>
                </a:solidFill>
                <a:latin typeface="Times New Roman"/>
              </a:rPr>
              <a:t>กระบวนการทำงา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1.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ail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port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จะถูกตรวจสอบผ่านทาง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site</a:t>
            </a:r>
            <a:r>
              <a:rPr b="0" lang="th-TH" sz="1600" spc="-1" strike="noStrike">
                <a:solidFill>
                  <a:srgbClr val="000000"/>
                </a:solidFill>
                <a:latin typeface="Times New Roman"/>
              </a:rPr>
              <a:t>โดยอัตโนมัต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ยกเลิกการ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port Stock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ผ่านทางเอกสาร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D1</a:t>
            </a:r>
            <a:r>
              <a:rPr b="0" lang="th-TH" sz="1600" spc="-1" strike="noStrike">
                <a:solidFill>
                  <a:srgbClr val="000000"/>
                </a:solidFill>
                <a:latin typeface="Times New Roman"/>
              </a:rPr>
              <a:t>เดิม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1.2.2 </a:t>
            </a:r>
            <a:r>
              <a:rPr b="0" lang="th-TH" sz="1600" spc="-1" strike="noStrike">
                <a:solidFill>
                  <a:srgbClr val="000000"/>
                </a:solidFill>
                <a:latin typeface="Times New Roman"/>
              </a:rPr>
              <a:t>รถยนต์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enExclusivity</a:t>
            </a:r>
            <a:r>
              <a:rPr b="0" lang="th-TH" sz="1600" spc="-1" strike="noStrike">
                <a:solidFill>
                  <a:srgbClr val="000000"/>
                </a:solidFill>
                <a:latin typeface="Times New Roman"/>
              </a:rPr>
              <a:t>จะถูกสุ่มตรวจที่โชว์รูม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ทุกสิ้นเดือน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1.2.3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การจัดแสดงรถ เช่น พื้นที่จัดแสดง และเครื่องมือการตลาด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กล่องไฟ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แผ่นป้ายทะเบียน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ใบราคารถยนต์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ต้องได้ตามมาตรฐา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enExclus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gsana New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Angsana New"/>
              </a:rPr>
              <a:t>1.2.4</a:t>
            </a:r>
            <a:r>
              <a:rPr b="0" lang="en-US" sz="1400" spc="-1" strike="noStrike">
                <a:solidFill>
                  <a:srgbClr val="3333cc"/>
                </a:solidFill>
                <a:latin typeface="Angsana New"/>
              </a:rPr>
              <a:t> 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Trade-in Prospect </a:t>
            </a: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Report 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</a:rPr>
              <a:t>ผู้แทนจำหน่าย</a:t>
            </a:r>
            <a:r>
              <a:rPr b="0" lang="th-TH" sz="1600" spc="-1" strike="noStrike">
                <a:solidFill>
                  <a:srgbClr val="3333cc"/>
                </a:solidFill>
                <a:latin typeface="Times New Roman"/>
              </a:rPr>
              <a:t>จะต้องส่งรายงานผ่านทาง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Email </a:t>
            </a:r>
            <a:r>
              <a:rPr b="0" lang="th-TH" sz="1600" spc="-1" strike="noStrike">
                <a:solidFill>
                  <a:srgbClr val="3333cc"/>
                </a:solidFill>
                <a:latin typeface="Times New Roman"/>
              </a:rPr>
              <a:t>ทุกสิ้นเดือน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th-TH" sz="1600" spc="-1" strike="noStrike">
                <a:solidFill>
                  <a:srgbClr val="3333cc"/>
                </a:solidFill>
                <a:latin typeface="Times New Roman"/>
              </a:rPr>
              <a:t>โดยใช้แบบฟอรม์ที่ทาง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MBTH</a:t>
            </a:r>
            <a:r>
              <a:rPr b="0" lang="th-TH" sz="1600" spc="-1" strike="noStrike">
                <a:solidFill>
                  <a:srgbClr val="3333cc"/>
                </a:solidFill>
                <a:latin typeface="Times New Roman"/>
              </a:rPr>
              <a:t>จัดเตรียมไว้ให้ภายใน</a:t>
            </a:r>
            <a:r>
              <a:rPr b="0" lang="th-TH" sz="1600" spc="-1" strike="noStrike">
                <a:solidFill>
                  <a:srgbClr val="3333cc"/>
                </a:solidFill>
                <a:latin typeface="Times New Roman"/>
              </a:rPr>
              <a:t>7</a:t>
            </a:r>
            <a:r>
              <a:rPr b="0" lang="th-TH" sz="1600" spc="-1" strike="noStrike">
                <a:solidFill>
                  <a:srgbClr val="3333cc"/>
                </a:solidFill>
                <a:latin typeface="Times New Roman"/>
              </a:rPr>
              <a:t>วันหลังจากสิ้นเดือน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th-TH" sz="1800" spc="-1" strike="noStrike">
                <a:solidFill>
                  <a:srgbClr val="ff0000"/>
                </a:solidFill>
                <a:latin typeface="Times New Roman"/>
              </a:rPr>
              <a:t>1.3) </a:t>
            </a:r>
            <a:r>
              <a:rPr b="1" lang="th-TH" sz="1800" spc="-1" strike="noStrike">
                <a:solidFill>
                  <a:srgbClr val="ff0000"/>
                </a:solidFill>
                <a:latin typeface="Times New Roman"/>
              </a:rPr>
              <a:t>บุคลาก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1.3.1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ผู้ทำหน้าที่รับผิดชอบธุรกิจรถมือสอง สามารถเป็นคนเดียวกับผู้จัดการฝ่ายขายรถใหม่  หรือพนักงานในฝ่ายขายเท่านั้น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โดยทำการบันทึกชื่อพนักงานที่รับผิดชอบลงในเวบไซด์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th-TH" sz="1600" spc="-1" strike="noStrike">
                <a:solidFill>
                  <a:srgbClr val="000000"/>
                </a:solidFill>
                <a:latin typeface="Times New Roman"/>
              </a:rPr>
              <a:t>แล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rganization char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th-TH" sz="1800" spc="-1" strike="noStrike">
                <a:solidFill>
                  <a:srgbClr val="ff0000"/>
                </a:solidFill>
                <a:latin typeface="Times New Roman"/>
              </a:rPr>
              <a:t>1.4) </a:t>
            </a:r>
            <a:r>
              <a:rPr b="1" lang="th-TH" sz="1800" spc="-1" strike="noStrike">
                <a:solidFill>
                  <a:srgbClr val="ff0000"/>
                </a:solidFill>
                <a:latin typeface="Times New Roman"/>
              </a:rPr>
              <a:t>งานเอกสารและใบอนุญาต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1.4.1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ป้ายราคาและใบเสร็จรับเงินถูกต้องตามมาตรฐาน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1.4.2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ผู้แทนจำหน่ายจำเป็นต้องขอใบอนุญาตค้าของเก่า ให้ถูกต้อ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Box 1"/>
          <p:cNvSpPr/>
          <p:nvPr/>
        </p:nvSpPr>
        <p:spPr>
          <a:xfrm>
            <a:off x="-284400" y="68400"/>
            <a:ext cx="23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 u="sng">
                <a:solidFill>
                  <a:srgbClr val="000000"/>
                </a:solidFill>
                <a:uFillTx/>
                <a:latin typeface="Times New Roman"/>
              </a:rPr>
              <a:t>สรุปสาระสำคั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179280" y="623160"/>
            <a:ext cx="8280360" cy="61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ven Exclusivity Standard : Certified Pre-owned Mercedes-Benz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3300"/>
                </a:solidFill>
                <a:latin typeface="Arial"/>
                <a:ea typeface="Arial"/>
              </a:rPr>
              <a:t>1.</a:t>
            </a:r>
            <a:r>
              <a:rPr b="0" lang="th-TH" sz="16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Vehicle have to Sell with 1 Warranty or</a:t>
            </a:r>
            <a:r>
              <a:rPr b="0" lang="th-TH" sz="1600" spc="-1" strike="noStrike">
                <a:solidFill>
                  <a:srgbClr val="ff3300"/>
                </a:solidFill>
                <a:latin typeface="Arial"/>
                <a:ea typeface="Arial"/>
              </a:rPr>
              <a:t> 20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,</a:t>
            </a:r>
            <a:r>
              <a:rPr b="0" lang="th-TH" sz="1600" spc="-1" strike="noStrike">
                <a:solidFill>
                  <a:srgbClr val="ff3300"/>
                </a:solidFill>
                <a:latin typeface="Arial"/>
                <a:ea typeface="Arial"/>
              </a:rPr>
              <a:t>000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km.</a:t>
            </a:r>
            <a:r>
              <a:rPr b="0" lang="de-DE" sz="1600" spc="-1" strike="noStrike">
                <a:solidFill>
                  <a:srgbClr val="ff3300"/>
                </a:solidFill>
                <a:latin typeface="Arial"/>
                <a:ea typeface="Arial"/>
              </a:rPr>
              <a:t>(whichever come first</a:t>
            </a:r>
            <a:r>
              <a:rPr b="0" lang="th-TH" sz="1600" spc="-1" strike="noStrike">
                <a:solidFill>
                  <a:srgbClr val="ff3300"/>
                </a:solidFill>
                <a:latin typeface="Arial"/>
                <a:ea typeface="Arial"/>
              </a:rPr>
              <a:t>.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3300"/>
                </a:solidFill>
                <a:latin typeface="Arial"/>
                <a:ea typeface="Arial"/>
              </a:rPr>
              <a:t>   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*Maximum</a:t>
            </a:r>
            <a:r>
              <a:rPr b="0" lang="th-TH" sz="1600" spc="-1" strike="noStrike">
                <a:solidFill>
                  <a:srgbClr val="ff3300"/>
                </a:solidFill>
                <a:latin typeface="Arial"/>
                <a:ea typeface="Arial"/>
              </a:rPr>
              <a:t> 2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years or</a:t>
            </a:r>
            <a:r>
              <a:rPr b="0" lang="th-TH" sz="1600" spc="-1" strike="noStrike">
                <a:solidFill>
                  <a:srgbClr val="ff3300"/>
                </a:solidFill>
                <a:latin typeface="Arial"/>
                <a:ea typeface="Arial"/>
              </a:rPr>
              <a:t>  40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,</a:t>
            </a:r>
            <a:r>
              <a:rPr b="0" lang="th-TH" sz="1600" spc="-1" strike="noStrike">
                <a:solidFill>
                  <a:srgbClr val="ff3300"/>
                </a:solidFill>
                <a:latin typeface="Arial"/>
                <a:ea typeface="Arial"/>
              </a:rPr>
              <a:t>000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km is an o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2.</a:t>
            </a:r>
            <a:r>
              <a:rPr b="0" lang="th-TH" sz="16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Vehicle have to Sell with 24 Hr. Road side assis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3300"/>
                </a:solidFill>
                <a:latin typeface="Arial"/>
                <a:ea typeface="Arial"/>
              </a:rPr>
              <a:t>   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*Mercedes-Benz Star Assis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ehicle have to pass criteria of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ulti-Point Vehicle Check conform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ercedes-Benz stand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  <a:ea typeface="Arial"/>
              </a:rPr>
              <a:t> The vehicles has no major accid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ge of vehicle must be less than 8 years and mileage is not  exceed 150,000 km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ge of vehicle must be less than 8 years count form registration 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  <a:ea typeface="Arial"/>
              </a:rPr>
              <a:t>No change mileag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and mileage less than 150,000 km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PMingLiU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  <a:ea typeface="MS PGothic"/>
              </a:rPr>
              <a:t>Vehicles in ProvenExclusivity program must have been sold by Mercedes-benz authorized dealer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V</a:t>
            </a:r>
            <a:r>
              <a:rPr b="0" lang="th-TH" sz="1400" spc="-1" strike="noStrike">
                <a:solidFill>
                  <a:srgbClr val="000000"/>
                </a:solidFill>
                <a:latin typeface="Arial"/>
                <a:ea typeface="Arial"/>
              </a:rPr>
              <a:t>ehicles must be in good condition, cleanliness, start promptly with out displaying any malfunctio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th-TH" sz="1400" spc="-1" strike="noStrike">
                <a:solidFill>
                  <a:srgbClr val="000000"/>
                </a:solidFill>
                <a:latin typeface="Arial"/>
                <a:ea typeface="Arial"/>
              </a:rPr>
              <a:t>at least half tank of fu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  <a:ea typeface="MS PGothic"/>
              </a:rPr>
              <a:t>V</a:t>
            </a:r>
            <a:r>
              <a:rPr b="0" lang="th-TH" sz="1400" spc="-1" strike="noStrike">
                <a:solidFill>
                  <a:srgbClr val="ff3300"/>
                </a:solidFill>
                <a:latin typeface="Arial"/>
                <a:ea typeface="Arial"/>
              </a:rPr>
              <a:t>ehicles are presented with 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  <a:ea typeface="MS PGothic"/>
              </a:rPr>
              <a:t>PE</a:t>
            </a:r>
            <a:r>
              <a:rPr b="0" lang="th-TH" sz="1400" spc="-1" strike="noStrike">
                <a:solidFill>
                  <a:srgbClr val="ff3300"/>
                </a:solidFill>
                <a:latin typeface="Arial"/>
                <a:ea typeface="Arial"/>
              </a:rPr>
              <a:t> CI-conform ,clearly visible price tag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  <a:ea typeface="MS PGothic"/>
              </a:rPr>
              <a:t>, Recipt</a:t>
            </a:r>
            <a:r>
              <a:rPr b="0" lang="th-TH" sz="1400" spc="-1" strike="noStrike">
                <a:solidFill>
                  <a:srgbClr val="ff3300"/>
                </a:solidFill>
                <a:latin typeface="Arial"/>
                <a:ea typeface="Arial"/>
              </a:rPr>
              <a:t> &amp; registration pl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7667640" y="0"/>
            <a:ext cx="132408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163440" y="-281880"/>
            <a:ext cx="7888320" cy="74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 u="sng">
                <a:solidFill>
                  <a:srgbClr val="000000"/>
                </a:solidFill>
                <a:uFillTx/>
                <a:latin typeface="Arial"/>
              </a:rPr>
              <a:t>มาตรฐาน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ven Exclusivity : Certified Pre-owned Mercedes-Benz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0" lang="th-TH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ff3300"/>
                </a:solidFill>
                <a:latin typeface="Times New Roman"/>
              </a:rPr>
              <a:t>มีการรับประกัน </a:t>
            </a:r>
            <a:r>
              <a:rPr b="0" lang="th-TH" sz="2800" spc="-1" strike="noStrike">
                <a:solidFill>
                  <a:srgbClr val="ff3300"/>
                </a:solidFill>
                <a:latin typeface="Times New Roman"/>
              </a:rPr>
              <a:t>1 </a:t>
            </a:r>
            <a:r>
              <a:rPr b="0" lang="th-TH" sz="2800" spc="-1" strike="noStrike">
                <a:solidFill>
                  <a:srgbClr val="ff3300"/>
                </a:solidFill>
                <a:latin typeface="Times New Roman"/>
              </a:rPr>
              <a:t>ปี หรือ </a:t>
            </a:r>
            <a:r>
              <a:rPr b="0" lang="th-TH" sz="2800" spc="-1" strike="noStrike">
                <a:solidFill>
                  <a:srgbClr val="ff3300"/>
                </a:solidFill>
                <a:latin typeface="Times New Roman"/>
              </a:rPr>
              <a:t>20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0" lang="th-TH" sz="2800" spc="-1" strike="noStrike">
                <a:solidFill>
                  <a:srgbClr val="ff3300"/>
                </a:solidFill>
                <a:latin typeface="Times New Roman"/>
              </a:rPr>
              <a:t>000</a:t>
            </a:r>
            <a:r>
              <a:rPr b="0" lang="th-TH" sz="2800" spc="-1" strike="noStrike">
                <a:solidFill>
                  <a:srgbClr val="ff3300"/>
                </a:solidFill>
                <a:latin typeface="Times New Roman"/>
              </a:rPr>
              <a:t>ก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*</a:t>
            </a:r>
            <a:r>
              <a:rPr b="0" lang="th-TH" sz="2000" spc="-1" strike="noStrike">
                <a:solidFill>
                  <a:srgbClr val="ff3300"/>
                </a:solidFill>
                <a:latin typeface="Arial"/>
              </a:rPr>
              <a:t>รับประกันสูงสุดถึง </a:t>
            </a:r>
            <a:r>
              <a:rPr b="0" lang="th-TH" sz="2000" spc="-1" strike="noStrike">
                <a:solidFill>
                  <a:srgbClr val="ff3300"/>
                </a:solidFill>
                <a:latin typeface="Arial"/>
              </a:rPr>
              <a:t>2 </a:t>
            </a:r>
            <a:r>
              <a:rPr b="0" lang="th-TH" sz="2000" spc="-1" strike="noStrike">
                <a:solidFill>
                  <a:srgbClr val="ff3300"/>
                </a:solidFill>
                <a:latin typeface="Arial"/>
              </a:rPr>
              <a:t>ปี </a:t>
            </a:r>
            <a:r>
              <a:rPr b="0" lang="th-TH" sz="2000" spc="-1" strike="noStrike">
                <a:solidFill>
                  <a:srgbClr val="ff3300"/>
                </a:solidFill>
                <a:latin typeface="Arial"/>
              </a:rPr>
              <a:t>40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0" lang="th-TH" sz="2000" spc="-1" strike="noStrike">
                <a:solidFill>
                  <a:srgbClr val="ff3300"/>
                </a:solidFill>
                <a:latin typeface="Arial"/>
              </a:rPr>
              <a:t>000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k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0" lang="th-TH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th-TH" sz="2400" spc="-1" strike="noStrike">
                <a:solidFill>
                  <a:srgbClr val="ff3300"/>
                </a:solidFill>
                <a:latin typeface="Arial"/>
              </a:rPr>
              <a:t>บริการช่วยเหลือฉุกเฉินตลอด</a:t>
            </a:r>
            <a:r>
              <a:rPr b="0" lang="th-TH" sz="2400" spc="-1" strike="noStrike">
                <a:solidFill>
                  <a:srgbClr val="ff3300"/>
                </a:solidFill>
                <a:latin typeface="Arial"/>
              </a:rPr>
              <a:t>24</a:t>
            </a:r>
            <a:r>
              <a:rPr b="0" lang="th-TH" sz="2400" spc="-1" strike="noStrike">
                <a:solidFill>
                  <a:srgbClr val="ff3300"/>
                </a:solidFill>
                <a:latin typeface="Arial"/>
              </a:rPr>
              <a:t>ช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Mercedes-Benz Star Assist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cs typeface="AngsanaUPC"/>
              </a:rPr>
              <a:t>ผ่านการตรวจสอบ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UPC"/>
              </a:rPr>
              <a:t>Multi-Point Vehicle Che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ngsanaUPC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cs typeface="AngsanaUPC"/>
              </a:rPr>
              <a:t>ตรงตามมาตรฐานขอ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UPC"/>
              </a:rPr>
              <a:t>Mercedes-Ben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รถยนต์ได้รับการตรวจสอบตามมาตรฐานขอ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rcedes-Benz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รถยนต์ไม่เคยประสบอุบัติเหตุรุนแร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ไม่เคยประสบอุบัติเหตุรุนแรงใด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อายุการใช้งานของรถยนต์ไม่เกิ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ปี มีเลขไมล์ไม่เกิ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150,000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</a:rPr>
              <a:t>ก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อายุการใช้งานของรถยนต์น้อยกว่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ปีนับจากวันเริ่มต้น วารันตีรถใหม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เลขไมล์บนแผงหน้าปัดเป็นเลขไมล์จริง และผ่านการใช้งานมาน้อยกว่า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PMingLiU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5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PMingLiU"/>
              </a:rPr>
              <a:t>0,000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กม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PMingLiU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 u="sng">
                <a:solidFill>
                  <a:srgbClr val="000000"/>
                </a:solidFill>
                <a:uFillTx/>
                <a:latin typeface="Arial"/>
              </a:rPr>
              <a:t>อื่น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3300"/>
                </a:solidFill>
                <a:latin typeface="Arial"/>
              </a:rPr>
              <a:t>รถยนต์ที่เข้าร่วม</a:t>
            </a:r>
            <a:r>
              <a:rPr b="0" lang="th-TH" sz="18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  <a:ea typeface="MS PGothic"/>
              </a:rPr>
              <a:t>ProvenExclusivity</a:t>
            </a:r>
            <a:r>
              <a:rPr b="0" lang="th-TH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th-TH" sz="1800" spc="-1" strike="noStrike">
                <a:solidFill>
                  <a:srgbClr val="ff3300"/>
                </a:solidFill>
                <a:latin typeface="Arial"/>
              </a:rPr>
              <a:t>จะต้องเป็นรถที่ผ่านการจัดจำหน่ายโดยเมอร์เซเดส</a:t>
            </a:r>
            <a:r>
              <a:rPr b="0" lang="th-TH" sz="1800" spc="-1" strike="noStrike">
                <a:solidFill>
                  <a:srgbClr val="ff3300"/>
                </a:solidFill>
                <a:latin typeface="Arial"/>
                <a:ea typeface="Arial"/>
              </a:rPr>
              <a:t>-</a:t>
            </a:r>
            <a:r>
              <a:rPr b="0" lang="th-TH" sz="1800" spc="-1" strike="noStrike">
                <a:solidFill>
                  <a:srgbClr val="ff3300"/>
                </a:solidFill>
                <a:latin typeface="Arial"/>
              </a:rPr>
              <a:t>เบนซ์ประเทศไทยเท่านั้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</a:rPr>
              <a:t>อยู่ในสภาพพร้อมจำหน่าย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</a:rPr>
              <a:t>สะอาด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</a:rPr>
              <a:t>สตาร์ทติด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</a:rPr>
              <a:t>ไม่มีข้อความ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th-TH" sz="1400" spc="-1" strike="noStrike">
                <a:solidFill>
                  <a:srgbClr val="000000"/>
                </a:solidFill>
                <a:latin typeface="Arial"/>
                <a:ea typeface="Arial"/>
              </a:rPr>
              <a:t>malfunction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</a:rPr>
              <a:t>ขึ้นแสดงที่หน้าปัด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</a:rPr>
              <a:t>น้ำมันครึ่งถั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3300"/>
                </a:solidFill>
                <a:latin typeface="Arial"/>
              </a:rPr>
              <a:t>รถยนต์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  <a:ea typeface="MS PGothic"/>
              </a:rPr>
              <a:t>ProvenExclusivity</a:t>
            </a:r>
            <a:r>
              <a:rPr b="0" lang="th-TH" sz="1400" spc="-1" strike="noStrike">
                <a:solidFill>
                  <a:srgbClr val="ff3300"/>
                </a:solidFill>
                <a:latin typeface="Arial"/>
                <a:ea typeface="MS PGothic"/>
              </a:rPr>
              <a:t> </a:t>
            </a:r>
            <a:r>
              <a:rPr b="0" lang="th-TH" sz="1800" spc="-1" strike="noStrike">
                <a:solidFill>
                  <a:srgbClr val="ff3300"/>
                </a:solidFill>
                <a:latin typeface="Arial"/>
              </a:rPr>
              <a:t>ที่จัดแสดง</a:t>
            </a:r>
            <a:r>
              <a:rPr b="0" lang="th-TH" sz="18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th-TH" sz="1800" spc="-1" strike="noStrike">
                <a:solidFill>
                  <a:srgbClr val="ff3300"/>
                </a:solidFill>
                <a:latin typeface="Arial"/>
              </a:rPr>
              <a:t>ต้องติดป้ายราคา</a:t>
            </a:r>
            <a:r>
              <a:rPr b="0" lang="th-TH" sz="18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th-TH" sz="1800" spc="-1" strike="noStrike">
                <a:solidFill>
                  <a:srgbClr val="ff3300"/>
                </a:solidFill>
                <a:latin typeface="Arial"/>
              </a:rPr>
              <a:t>และแผ่นป้ายทะเบียน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MS PGothic"/>
              </a:rPr>
              <a:t>,</a:t>
            </a:r>
            <a:r>
              <a:rPr b="0" lang="th-TH" sz="1800" spc="-1" strike="noStrike">
                <a:solidFill>
                  <a:srgbClr val="ff3300"/>
                </a:solidFill>
                <a:latin typeface="Arial"/>
              </a:rPr>
              <a:t>ใบเสร็จรับเงิน ตามมาตรฐานที่กำหน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7667640" y="115920"/>
            <a:ext cx="132408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5"/>
          <p:cNvSpPr/>
          <p:nvPr/>
        </p:nvSpPr>
        <p:spPr>
          <a:xfrm>
            <a:off x="-420120" y="4508640"/>
            <a:ext cx="5601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 u="sng">
                <a:solidFill>
                  <a:srgbClr val="000000"/>
                </a:solidFill>
                <a:uFillTx/>
                <a:latin typeface="Angsana New"/>
              </a:rPr>
              <a:t>1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ngsana New"/>
              </a:rPr>
              <a:t>)</a:t>
            </a:r>
            <a:r>
              <a:rPr b="1" lang="th-TH" sz="2400" spc="-1" strike="noStrike" u="sng">
                <a:solidFill>
                  <a:srgbClr val="000000"/>
                </a:solidFill>
                <a:uFillTx/>
                <a:latin typeface="Angsana New"/>
              </a:rPr>
              <a:t>ใบราคา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ngsana New"/>
              </a:rPr>
              <a:t>(Price tag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ngsana New"/>
              </a:rPr>
              <a:t>รายละเอียดและรูปแบบตรงตามที่กำหนดตามมาตรฐา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ngsana New"/>
              </a:rPr>
              <a:t>ติดไว้ที่กระจกด้านหน้าฝั่งผู้โดยสา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6" descr="MB_368"/>
          <p:cNvPicPr/>
          <p:nvPr/>
        </p:nvPicPr>
        <p:blipFill>
          <a:blip r:embed="rId1"/>
          <a:stretch/>
        </p:blipFill>
        <p:spPr>
          <a:xfrm>
            <a:off x="611280" y="1773360"/>
            <a:ext cx="3743280" cy="2066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7"/>
          <p:cNvSpPr/>
          <p:nvPr/>
        </p:nvSpPr>
        <p:spPr>
          <a:xfrm>
            <a:off x="395280" y="5661000"/>
            <a:ext cx="381636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ngsana New"/>
              </a:rPr>
              <a:t>3)</a:t>
            </a:r>
            <a:r>
              <a:rPr b="1" lang="th-TH" sz="2400" spc="-1" strike="noStrike" u="sng">
                <a:solidFill>
                  <a:srgbClr val="000000"/>
                </a:solidFill>
                <a:uFillTx/>
                <a:latin typeface="Angsana New"/>
              </a:rPr>
              <a:t>ป้ายทะเบียน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ngsana New"/>
              </a:rPr>
              <a:t>(registration pl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ngsana New"/>
              </a:rPr>
              <a:t>รายละเอียด</a:t>
            </a:r>
            <a:r>
              <a:rPr b="0" lang="en-US" sz="2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Angsana New"/>
              </a:rPr>
              <a:t>สี และรูปแบบตรงตามที่กำหน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ngsana New"/>
              </a:rPr>
              <a:t>ติดที่ด้านหน้าและหลังของรถยนต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8" descr="MB_355"/>
          <p:cNvPicPr/>
          <p:nvPr/>
        </p:nvPicPr>
        <p:blipFill>
          <a:blip r:embed="rId2"/>
          <a:stretch/>
        </p:blipFill>
        <p:spPr>
          <a:xfrm>
            <a:off x="5292720" y="404640"/>
            <a:ext cx="3095640" cy="18669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9"/>
          <p:cNvSpPr/>
          <p:nvPr/>
        </p:nvSpPr>
        <p:spPr>
          <a:xfrm>
            <a:off x="3776400" y="4508640"/>
            <a:ext cx="5593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ngsana New"/>
              </a:rPr>
              <a:t>2)</a:t>
            </a:r>
            <a:r>
              <a:rPr b="1" lang="th-TH" sz="2400" spc="-1" strike="noStrike" u="sng">
                <a:solidFill>
                  <a:srgbClr val="000000"/>
                </a:solidFill>
                <a:uFillTx/>
                <a:latin typeface="Angsana New"/>
              </a:rPr>
              <a:t>ป้ายวงกลม สูญญากา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imes New Roman"/>
              </a:rPr>
              <a:t>รายละเอียดและรูปแบบตรงตามที่กำหนดตามมาตรฐา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ngsana New"/>
              </a:rPr>
              <a:t>ติดไว้ที่กระจกด้านหน้าฝั่งผู้โดยสา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3825000" y="5675400"/>
            <a:ext cx="5601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 u="sng">
                <a:solidFill>
                  <a:srgbClr val="000000"/>
                </a:solidFill>
                <a:uFillTx/>
                <a:latin typeface="Angsana New"/>
              </a:rPr>
              <a:t>4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ngsana New"/>
              </a:rPr>
              <a:t>)</a:t>
            </a:r>
            <a:r>
              <a:rPr b="1" lang="th-TH" sz="2400" spc="-1" strike="noStrike" u="sng">
                <a:solidFill>
                  <a:srgbClr val="000000"/>
                </a:solidFill>
                <a:uFillTx/>
                <a:latin typeface="Angsana New"/>
              </a:rPr>
              <a:t>แผ่นคล้องกระจกมองหลัง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ngsana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ngsana New"/>
              </a:rPr>
              <a:t>รายละเอียดและรูปแบบตรงตามที่กำหนดตามมาตรฐา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ngsana New"/>
              </a:rPr>
              <a:t>ติดไว้ที่กระจกมองหลั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1" descr="MB_421"/>
          <p:cNvPicPr/>
          <p:nvPr/>
        </p:nvPicPr>
        <p:blipFill>
          <a:blip r:embed="rId3"/>
          <a:stretch/>
        </p:blipFill>
        <p:spPr>
          <a:xfrm>
            <a:off x="6948360" y="2349360"/>
            <a:ext cx="1451160" cy="2175120"/>
          </a:xfrm>
          <a:prstGeom prst="rect">
            <a:avLst/>
          </a:prstGeom>
          <a:ln w="0">
            <a:noFill/>
          </a:ln>
        </p:spPr>
      </p:pic>
      <p:sp>
        <p:nvSpPr>
          <p:cNvPr id="59" name="Oval 13"/>
          <p:cNvSpPr/>
          <p:nvPr/>
        </p:nvSpPr>
        <p:spPr>
          <a:xfrm>
            <a:off x="3348000" y="1422360"/>
            <a:ext cx="289080" cy="289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14"/>
          <p:cNvSpPr/>
          <p:nvPr/>
        </p:nvSpPr>
        <p:spPr>
          <a:xfrm>
            <a:off x="2700360" y="1413000"/>
            <a:ext cx="289080" cy="288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15"/>
          <p:cNvSpPr/>
          <p:nvPr/>
        </p:nvSpPr>
        <p:spPr>
          <a:xfrm>
            <a:off x="3922560" y="3429000"/>
            <a:ext cx="289080" cy="289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16"/>
          <p:cNvSpPr/>
          <p:nvPr/>
        </p:nvSpPr>
        <p:spPr>
          <a:xfrm>
            <a:off x="2050920" y="1413000"/>
            <a:ext cx="289080" cy="288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7"/>
          <p:cNvSpPr/>
          <p:nvPr/>
        </p:nvSpPr>
        <p:spPr>
          <a:xfrm flipV="1">
            <a:off x="2916360" y="1699920"/>
            <a:ext cx="431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8"/>
          <p:cNvSpPr/>
          <p:nvPr/>
        </p:nvSpPr>
        <p:spPr>
          <a:xfrm flipV="1">
            <a:off x="2700360" y="169992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9"/>
          <p:cNvSpPr/>
          <p:nvPr/>
        </p:nvSpPr>
        <p:spPr>
          <a:xfrm>
            <a:off x="3924360" y="3213000"/>
            <a:ext cx="71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20"/>
          <p:cNvSpPr/>
          <p:nvPr/>
        </p:nvSpPr>
        <p:spPr>
          <a:xfrm flipH="1" flipV="1">
            <a:off x="2195280" y="1699920"/>
            <a:ext cx="215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1"/>
          <p:cNvSpPr/>
          <p:nvPr/>
        </p:nvSpPr>
        <p:spPr>
          <a:xfrm>
            <a:off x="199080" y="189000"/>
            <a:ext cx="405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OS for ProvenExclus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22" descr="MB_399"/>
          <p:cNvPicPr/>
          <p:nvPr/>
        </p:nvPicPr>
        <p:blipFill>
          <a:blip r:embed="rId4"/>
          <a:stretch/>
        </p:blipFill>
        <p:spPr>
          <a:xfrm>
            <a:off x="5292720" y="2349360"/>
            <a:ext cx="1366920" cy="2159280"/>
          </a:xfrm>
          <a:prstGeom prst="rect">
            <a:avLst/>
          </a:prstGeom>
          <a:ln w="0">
            <a:noFill/>
          </a:ln>
        </p:spPr>
      </p:pic>
      <p:sp>
        <p:nvSpPr>
          <p:cNvPr id="69" name="Oval 14"/>
          <p:cNvSpPr/>
          <p:nvPr/>
        </p:nvSpPr>
        <p:spPr>
          <a:xfrm>
            <a:off x="8315280" y="404640"/>
            <a:ext cx="289080" cy="289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Oval 13"/>
          <p:cNvSpPr/>
          <p:nvPr/>
        </p:nvSpPr>
        <p:spPr>
          <a:xfrm>
            <a:off x="7674120" y="1422360"/>
            <a:ext cx="288720" cy="289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15"/>
          <p:cNvSpPr/>
          <p:nvPr/>
        </p:nvSpPr>
        <p:spPr>
          <a:xfrm>
            <a:off x="8170920" y="3381480"/>
            <a:ext cx="288720" cy="288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Oval 16"/>
          <p:cNvSpPr/>
          <p:nvPr/>
        </p:nvSpPr>
        <p:spPr>
          <a:xfrm>
            <a:off x="5830920" y="2421000"/>
            <a:ext cx="288720" cy="288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14"/>
          <p:cNvGrpSpPr/>
          <p:nvPr/>
        </p:nvGrpSpPr>
        <p:grpSpPr>
          <a:xfrm>
            <a:off x="304920" y="2209680"/>
            <a:ext cx="8496360" cy="2971800"/>
            <a:chOff x="304920" y="2209680"/>
            <a:chExt cx="8496360" cy="2971800"/>
          </a:xfrm>
        </p:grpSpPr>
        <p:pic>
          <p:nvPicPr>
            <p:cNvPr id="74" name="Picture 2" descr=""/>
            <p:cNvPicPr/>
            <p:nvPr/>
          </p:nvPicPr>
          <p:blipFill>
            <a:blip r:embed="rId1"/>
            <a:srcRect l="0" t="0" r="0" b="877"/>
            <a:stretch/>
          </p:blipFill>
          <p:spPr>
            <a:xfrm>
              <a:off x="380880" y="2209680"/>
              <a:ext cx="2032200" cy="288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3" descr=""/>
            <p:cNvPicPr/>
            <p:nvPr/>
          </p:nvPicPr>
          <p:blipFill>
            <a:blip r:embed="rId2"/>
            <a:srcRect l="0" t="0" r="0" b="2992"/>
            <a:stretch/>
          </p:blipFill>
          <p:spPr>
            <a:xfrm>
              <a:off x="2438280" y="2209680"/>
              <a:ext cx="2116080" cy="288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4" descr=""/>
            <p:cNvPicPr/>
            <p:nvPr/>
          </p:nvPicPr>
          <p:blipFill>
            <a:blip r:embed="rId3"/>
            <a:srcRect l="0" t="0" r="0" b="2568"/>
            <a:stretch/>
          </p:blipFill>
          <p:spPr>
            <a:xfrm>
              <a:off x="4579920" y="2209680"/>
              <a:ext cx="2125800" cy="289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6" descr=""/>
            <p:cNvPicPr/>
            <p:nvPr/>
          </p:nvPicPr>
          <p:blipFill>
            <a:blip r:embed="rId4"/>
            <a:stretch/>
          </p:blipFill>
          <p:spPr>
            <a:xfrm>
              <a:off x="6705720" y="2362320"/>
              <a:ext cx="2095560" cy="28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Rectangle 7"/>
            <p:cNvSpPr/>
            <p:nvPr/>
          </p:nvSpPr>
          <p:spPr>
            <a:xfrm>
              <a:off x="304920" y="2209680"/>
              <a:ext cx="8458200" cy="2971800"/>
            </a:xfrm>
            <a:prstGeom prst="rect">
              <a:avLst/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9" name="Picture 9" descr="iD1 Brand Mark 4C"/>
            <p:cNvPicPr/>
            <p:nvPr/>
          </p:nvPicPr>
          <p:blipFill>
            <a:blip r:embed="rId5">
              <a:lum bright="12000"/>
            </a:blip>
            <a:stretch/>
          </p:blipFill>
          <p:spPr>
            <a:xfrm>
              <a:off x="7020000" y="2948040"/>
              <a:ext cx="228600" cy="17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11" descr="iD1 Brand Mark 4C"/>
            <p:cNvPicPr/>
            <p:nvPr/>
          </p:nvPicPr>
          <p:blipFill>
            <a:blip r:embed="rId6">
              <a:lum bright="12000"/>
            </a:blip>
            <a:stretch/>
          </p:blipFill>
          <p:spPr>
            <a:xfrm>
              <a:off x="7524720" y="2948040"/>
              <a:ext cx="228600" cy="17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Rectangle 8"/>
            <p:cNvSpPr/>
            <p:nvPr/>
          </p:nvSpPr>
          <p:spPr>
            <a:xfrm>
              <a:off x="380880" y="2209680"/>
              <a:ext cx="8382240" cy="28958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Rectangle 15"/>
          <p:cNvSpPr/>
          <p:nvPr/>
        </p:nvSpPr>
        <p:spPr>
          <a:xfrm>
            <a:off x="6477120" y="2286000"/>
            <a:ext cx="3045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6"/>
          <p:cNvSpPr/>
          <p:nvPr/>
        </p:nvSpPr>
        <p:spPr>
          <a:xfrm>
            <a:off x="4419720" y="2286000"/>
            <a:ext cx="3045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8"/>
          <p:cNvSpPr/>
          <p:nvPr/>
        </p:nvSpPr>
        <p:spPr>
          <a:xfrm>
            <a:off x="2743200" y="70020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poAMed"/>
              </a:rPr>
              <a:t>ProvenExclusivity Showroom Stand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19" descr="iD1 Brand Mark 4C"/>
          <p:cNvPicPr/>
          <p:nvPr/>
        </p:nvPicPr>
        <p:blipFill>
          <a:blip r:embed="rId7"/>
          <a:stretch/>
        </p:blipFill>
        <p:spPr>
          <a:xfrm>
            <a:off x="7848720" y="380880"/>
            <a:ext cx="914400" cy="70164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20"/>
          <p:cNvSpPr/>
          <p:nvPr/>
        </p:nvSpPr>
        <p:spPr>
          <a:xfrm>
            <a:off x="7772400" y="2362320"/>
            <a:ext cx="1219320" cy="685800"/>
          </a:xfrm>
          <a:prstGeom prst="wedgeRectCallout">
            <a:avLst>
              <a:gd name="adj1" fmla="val -45310"/>
              <a:gd name="adj2" fmla="val 6782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rpoAMed"/>
              </a:rPr>
              <a:t>Pre-own Vehi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8"/>
          <a:stretch/>
        </p:blipFill>
        <p:spPr>
          <a:xfrm>
            <a:off x="7596360" y="333360"/>
            <a:ext cx="1366560" cy="930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"/>
          <p:cNvPicPr/>
          <p:nvPr/>
        </p:nvPicPr>
        <p:blipFill>
          <a:blip r:embed="rId9"/>
          <a:stretch/>
        </p:blipFill>
        <p:spPr>
          <a:xfrm>
            <a:off x="6915240" y="2897280"/>
            <a:ext cx="436320" cy="296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10"/>
          <a:stretch/>
        </p:blipFill>
        <p:spPr>
          <a:xfrm>
            <a:off x="7494480" y="2935440"/>
            <a:ext cx="289080" cy="19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304920" y="2286000"/>
            <a:ext cx="8458200" cy="2971800"/>
            <a:chOff x="304920" y="2286000"/>
            <a:chExt cx="8458200" cy="2971800"/>
          </a:xfrm>
        </p:grpSpPr>
        <p:pic>
          <p:nvPicPr>
            <p:cNvPr id="91" name="Picture 3" descr=""/>
            <p:cNvPicPr/>
            <p:nvPr/>
          </p:nvPicPr>
          <p:blipFill>
            <a:blip r:embed="rId1"/>
            <a:stretch/>
          </p:blipFill>
          <p:spPr>
            <a:xfrm>
              <a:off x="6718320" y="2286000"/>
              <a:ext cx="204480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" descr=""/>
            <p:cNvPicPr/>
            <p:nvPr/>
          </p:nvPicPr>
          <p:blipFill>
            <a:blip r:embed="rId2"/>
            <a:srcRect l="0" t="0" r="0" b="877"/>
            <a:stretch/>
          </p:blipFill>
          <p:spPr>
            <a:xfrm>
              <a:off x="380880" y="2286000"/>
              <a:ext cx="2032200" cy="28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5" descr=""/>
            <p:cNvPicPr/>
            <p:nvPr/>
          </p:nvPicPr>
          <p:blipFill>
            <a:blip r:embed="rId3"/>
            <a:srcRect l="0" t="0" r="0" b="2992"/>
            <a:stretch/>
          </p:blipFill>
          <p:spPr>
            <a:xfrm>
              <a:off x="2438280" y="2286000"/>
              <a:ext cx="2116080" cy="288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6" descr=""/>
            <p:cNvPicPr/>
            <p:nvPr/>
          </p:nvPicPr>
          <p:blipFill>
            <a:blip r:embed="rId4"/>
            <a:srcRect l="0" t="0" r="0" b="2568"/>
            <a:stretch/>
          </p:blipFill>
          <p:spPr>
            <a:xfrm>
              <a:off x="4579920" y="2286000"/>
              <a:ext cx="2125800" cy="28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Rectangle 7"/>
            <p:cNvSpPr/>
            <p:nvPr/>
          </p:nvSpPr>
          <p:spPr>
            <a:xfrm>
              <a:off x="304920" y="2286000"/>
              <a:ext cx="8458200" cy="2971800"/>
            </a:xfrm>
            <a:prstGeom prst="rect">
              <a:avLst/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Rectangle 8"/>
            <p:cNvSpPr/>
            <p:nvPr/>
          </p:nvSpPr>
          <p:spPr>
            <a:xfrm>
              <a:off x="380880" y="2286000"/>
              <a:ext cx="8382240" cy="289548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9"/>
            <p:cNvSpPr/>
            <p:nvPr/>
          </p:nvSpPr>
          <p:spPr>
            <a:xfrm>
              <a:off x="6477120" y="2361960"/>
              <a:ext cx="3045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10"/>
            <p:cNvSpPr/>
            <p:nvPr/>
          </p:nvSpPr>
          <p:spPr>
            <a:xfrm>
              <a:off x="4419720" y="2361960"/>
              <a:ext cx="30456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Text Box 11"/>
          <p:cNvSpPr/>
          <p:nvPr/>
        </p:nvSpPr>
        <p:spPr>
          <a:xfrm>
            <a:off x="1143000" y="78588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poAMed"/>
              </a:rPr>
              <a:t>Corporate Design Guidelines for DaimlerChrys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12" descr="iD1 Brand Mark 4C"/>
          <p:cNvPicPr/>
          <p:nvPr/>
        </p:nvPicPr>
        <p:blipFill>
          <a:blip r:embed="rId5"/>
          <a:stretch/>
        </p:blipFill>
        <p:spPr>
          <a:xfrm>
            <a:off x="7848720" y="380880"/>
            <a:ext cx="914400" cy="701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6"/>
          <a:stretch/>
        </p:blipFill>
        <p:spPr>
          <a:xfrm>
            <a:off x="7667640" y="333360"/>
            <a:ext cx="1225440" cy="8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026" descr=""/>
          <p:cNvPicPr/>
          <p:nvPr/>
        </p:nvPicPr>
        <p:blipFill>
          <a:blip r:embed="rId1"/>
          <a:stretch/>
        </p:blipFill>
        <p:spPr>
          <a:xfrm>
            <a:off x="2362320" y="0"/>
            <a:ext cx="483228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2"/>
          <a:stretch/>
        </p:blipFill>
        <p:spPr>
          <a:xfrm>
            <a:off x="3670200" y="2031840"/>
            <a:ext cx="935280" cy="636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3"/>
          <a:stretch/>
        </p:blipFill>
        <p:spPr>
          <a:xfrm>
            <a:off x="2484360" y="189000"/>
            <a:ext cx="935280" cy="636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"/>
          <p:cNvPicPr/>
          <p:nvPr/>
        </p:nvPicPr>
        <p:blipFill>
          <a:blip r:embed="rId4"/>
          <a:stretch/>
        </p:blipFill>
        <p:spPr>
          <a:xfrm rot="21292800">
            <a:off x="3455640" y="4768560"/>
            <a:ext cx="6843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"/>
          <p:cNvPicPr/>
          <p:nvPr/>
        </p:nvPicPr>
        <p:blipFill>
          <a:blip r:embed="rId5"/>
          <a:stretch/>
        </p:blipFill>
        <p:spPr>
          <a:xfrm>
            <a:off x="4586400" y="5148360"/>
            <a:ext cx="649080" cy="441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6"/>
          <a:stretch/>
        </p:blipFill>
        <p:spPr>
          <a:xfrm>
            <a:off x="5769000" y="5573880"/>
            <a:ext cx="503280" cy="3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7T10:22:03Z</dcterms:created>
  <dc:creator>DaimlerChrysler</dc:creator>
  <dc:description/>
  <dc:language>en-US</dc:language>
  <cp:lastModifiedBy>Iamsuksaeng, Mongkol (118)</cp:lastModifiedBy>
  <cp:lastPrinted>2012-09-07T04:04:38Z</cp:lastPrinted>
  <dcterms:modified xsi:type="dcterms:W3CDTF">2014-01-27T04:03:28Z</dcterms:modified>
  <cp:revision>53</cp:revision>
  <dc:subject/>
  <dc:title>PowerPoint Presentation</dc:title>
</cp:coreProperties>
</file>